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FFEA-CDDC-4812-90CB-8CBF6FEAD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0C72-D7A2-4027-98EA-F33435C7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24FE-8C89-4A76-956C-D158FB18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4B4E-2193-4794-95B2-9A6315A4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6F5C-DE6B-4B46-9E60-440C3B1B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7661-83FC-43E6-8260-2678FD84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9022-1768-471C-8A55-D8364206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94E2-B081-4852-BD79-2597DED5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A199-0A94-420A-9C4E-FF3D2733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2C2E-F196-48C1-BC8C-35679AE3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13EB-8276-493F-8303-0207FD6B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A86D-099D-48FE-8722-6672E5EA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9E15-0AF9-4F7C-AC83-F25E2191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835B-8FAB-4115-B50C-3C987226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6C27-0E96-485C-862C-857ABDEA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2ED0-11FC-40AD-BC69-A546F726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29DB-A965-436B-B022-A9F5FEF7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4575-3640-469C-9B25-C8E7189E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4B18-4670-4497-A4FB-11738B8A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E0A6-D2DB-4997-AC69-B9EE9A3A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BB49-C7EF-4154-B15C-B64D0618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E96A-0E82-49EB-9340-44E2CC7D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C036-AA79-454E-B20B-3D25614B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CDEB-4318-4FB9-B5F3-15353E7A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D7F7-5A8C-4E99-933D-F1C2CEF63FD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7CDC-BDF9-486E-B39F-0BD81BCF21C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Dimensional Analysis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ll Lucke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aufort Academ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Practice 1 (Answers)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0" y="13716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l = 1 c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gal = 3.8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= 1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152388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.      2.9 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= __?__ 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327672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.      9.9 in = __?__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0" y="274320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km = 0.61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i = 5280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ft = 12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 = 39.3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in = 2.5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5029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.      8.1 s = __?__ y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4876920"/>
            <a:ext cx="236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day = 24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yr = 365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hr = 60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in = 60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hr = 3600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25146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22096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9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19810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Verdana"/>
              </a:rPr>
              <a:t>? g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2514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57400" y="22096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48120" y="2057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371600" y="213372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514240" y="2590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2514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8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2133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38480" y="22096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 760 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434340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601992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5120" y="3733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05120" y="5486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14400" y="396252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9.9 in     1 m         1 km      = 2.5 x 10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-4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434340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9.3 in    10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666520" y="22096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580920" y="25146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52680" y="2133720"/>
            <a:ext cx="6098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8120" y="3733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371600" y="39625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590920" y="43434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285640" y="3962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885840" y="44197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88620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56386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.1 s     1 hr     1 day    1 yr   =  2.6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-7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y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81080" y="601992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600 s   24 hr   365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71800" y="5486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09880" y="5486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1599840" y="56386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742840" y="609588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504960" y="6019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437920" y="56386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571640" y="6019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52320" y="5638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114800" y="5638680"/>
            <a:ext cx="45720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3657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Verdana"/>
              </a:rPr>
              <a:t>? 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54100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Verdana"/>
              </a:rPr>
              <a:t>? y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Practice 2 (Answers)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16002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.     33 mph = __?__ c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10280" y="1371600"/>
            <a:ext cx="243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km = 0.61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i = 5280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ft = 12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 = 39.3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in = 2.5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10280" y="3048120"/>
            <a:ext cx="236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day = 24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yr = 365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hr = 60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in = 60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hr = 3600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33526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.     $2.55/gal = __?__ Eu/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86600" y="487692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l = 1 c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gal = 3.8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= 1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51055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.     1.5 c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/s = __?__ gal/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934320" y="6248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Eu = $1.18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259092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441972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6095880"/>
            <a:ext cx="586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220968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3 mi  5280 ft  12 in   2.54 cm  1 hr  = 1.5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25909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hr    1 mi      1 ft      1 in      3600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43000" y="2133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33720" y="2133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95480" y="2133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38480" y="2133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62120" y="22096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599840" y="2590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828440" y="2209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2514240" y="2590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590560" y="2209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3352320" y="2590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2590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2209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2286000"/>
            <a:ext cx="4572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48320" y="2666880"/>
            <a:ext cx="4572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19810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Verdana"/>
              </a:rPr>
              <a:t>? cm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403848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55 dol      1 Eu      1 gal    = 0.569 Eu/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3733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Verdana"/>
              </a:rPr>
              <a:t>? Eu/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44197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gal      1.18 dol     3.8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7652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9548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5715000"/>
            <a:ext cx="67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.5 c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1 ml     1 L        1 gal   3600 s  24 hr = 34 gal/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609588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 s      1 c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1000 ml  3.8 L   1 hr     1 da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2640" y="548640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? Gal/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5638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057400" y="5638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71800" y="5638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33920" y="5638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5638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121932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362320" y="4419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44197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352680" y="40384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09680" y="4038480"/>
            <a:ext cx="45720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505320" y="4419720"/>
            <a:ext cx="30456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00400" y="57150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24280" y="6095880"/>
            <a:ext cx="45720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762120" y="57150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600200" y="6172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523520" y="57150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666520" y="60958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60958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43400" y="57150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362320" y="57150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428640" y="61722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62520" y="60958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876920" y="563868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HOMEWORK: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ndout – do all problems on Dimensional Analy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Purpose 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mensional Analysis, also known as “Factor Labeling”, is a systematic method used for the conversion of units, typically from metric to non-metric or vice-vers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e: if you wanted to know how many inches are in 3.3 km, you would use dimensional analy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e: this conversion </a:t>
            </a:r>
            <a:r>
              <a:rPr b="0" lang="en-US" sz="2800" spc="-1" strike="noStrike">
                <a:solidFill>
                  <a:srgbClr val="cc3300"/>
                </a:solidFill>
                <a:latin typeface="Verdana"/>
              </a:rPr>
              <a:t>seem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important, but the METHOD is important and will be </a:t>
            </a:r>
            <a:r>
              <a:rPr b="0" lang="en-US" sz="2800" spc="-1" strike="noStrike">
                <a:solidFill>
                  <a:srgbClr val="6600ff"/>
                </a:solidFill>
                <a:latin typeface="Verdana"/>
              </a:rPr>
              <a:t>vi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o your existence as a Chemistry or Physics stud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Table of Common Conversion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1523880"/>
            <a:ext cx="4572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km = 0.61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i = 5280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ft = 12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 = 39.3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in = 2.5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4495680"/>
            <a:ext cx="28954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l = 1 c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gal = 3.8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= 1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1600200"/>
            <a:ext cx="3124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oz = 28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78680" y="3124080"/>
            <a:ext cx="1720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day = 24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yr = 365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hr = 60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in = 60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hr = 3600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25146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Verdana"/>
              </a:rPr>
              <a:t>Memorize    The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62485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Note: You should know all metric to metric conversion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6172200"/>
            <a:ext cx="7543800" cy="457200"/>
          </a:xfrm>
          <a:prstGeom prst="rect">
            <a:avLst/>
          </a:prstGeom>
          <a:solidFill>
            <a:srgbClr val="00cc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2438280"/>
            <a:ext cx="2819160" cy="1219320"/>
          </a:xfrm>
          <a:prstGeom prst="ellipse">
            <a:avLst/>
          </a:prstGeom>
          <a:gradFill rotWithShape="0">
            <a:gsLst>
              <a:gs pos="0">
                <a:srgbClr val="6600ff">
                  <a:alpha val="32156"/>
                </a:srgbClr>
              </a:gs>
              <a:gs pos="100000">
                <a:srgbClr val="2f0075">
                  <a:alpha val="3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Mathematical Basi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t’s take our example, 3.3 km = __?_ 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happens if we multiply 3.3 km by 1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do these represent?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2/12;   5280/5280;   3.14/3.1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do these represen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2 in / 1 foot;   5280 ft / 1 m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26668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Verdana"/>
              </a:rPr>
              <a:t>We are not changing the meaning of the value 3.3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41148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Verdana"/>
              </a:rPr>
              <a:t>They all represent the numb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7913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Verdana"/>
              </a:rPr>
              <a:t>These all represent the number “1” since the numerator equals the denominator in meaning (not in number or u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onversions as Fraction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w we know we can take our conversions and make fractions out of t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e:  </a:t>
            </a: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1 km = 0.6 m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an be written 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403848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996633"/>
                </a:solidFill>
                <a:uFillTx/>
                <a:latin typeface="Verdana"/>
              </a:rPr>
              <a:t>1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Verdana"/>
              </a:rPr>
              <a:t>0.6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114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or a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403848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996633"/>
                </a:solidFill>
                <a:uFillTx/>
                <a:latin typeface="Verdana"/>
              </a:rPr>
              <a:t>0.6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Verdana"/>
              </a:rPr>
              <a:t>1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New Conversion Tables - Length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2514600"/>
            <a:ext cx="1143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5280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523880"/>
            <a:ext cx="1143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0.6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2514600"/>
            <a:ext cx="1143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1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280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1523880"/>
            <a:ext cx="1143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1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0.6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600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hown in P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3505320"/>
            <a:ext cx="1143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1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2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3505320"/>
            <a:ext cx="1143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12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4648320"/>
            <a:ext cx="1143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1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9.3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4648320"/>
            <a:ext cx="1143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39.3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571500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1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.5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5715000"/>
            <a:ext cx="1676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2.5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2971800"/>
            <a:ext cx="3124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ff"/>
                </a:solidFill>
                <a:latin typeface="Verdana"/>
              </a:rPr>
              <a:t>More than just adv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ff"/>
                </a:solidFill>
                <a:latin typeface="Verdana"/>
              </a:rPr>
              <a:t>Start thinking of the entire table on slide 3 in this man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2590920"/>
            <a:ext cx="3429000" cy="2133360"/>
          </a:xfrm>
          <a:prstGeom prst="rect">
            <a:avLst/>
          </a:prstGeom>
          <a:solidFill>
            <a:srgbClr val="00cc00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Let’s Factor Label to Convert!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0" y="1523880"/>
            <a:ext cx="24382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km = 0.61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i = 5280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ft = 12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 = 39.3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in = 2.5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2971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Verdana"/>
              </a:rPr>
              <a:t>3.3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3733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00"/>
                </a:solidFill>
                <a:latin typeface="Verdana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raw a long horizontal line (indicating the divide b/w numerator and denomina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33526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48006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00"/>
                </a:solidFill>
                <a:latin typeface="Verdana"/>
              </a:rPr>
              <a:t>Step 4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raw vertical line(s) to separate portions of the 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51055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00"/>
                </a:solidFill>
                <a:latin typeface="Verdana"/>
              </a:rPr>
              <a:t>Step 5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Write the conversion factor WHICH CANCELS OUT the unit currently in the numerator. Start with the DENOMINATOR, and plan out your conversion strategy (ie: km to mi; mi to ft, ft to 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152388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Verdana"/>
              </a:rPr>
              <a:t>3.3 km = __?__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9810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t’s copy our length conversions 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24382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00"/>
                </a:solidFill>
                <a:latin typeface="Verdana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opy the g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441972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00"/>
                </a:solidFill>
                <a:latin typeface="Verdana"/>
              </a:rPr>
              <a:t>Step 3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Print the unit you’re solving for above the g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74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?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33526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2971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.6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2895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43200" y="3352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43200" y="2971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280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2743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38480" y="3352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38480" y="2971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2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205740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600ff"/>
                </a:solidFill>
                <a:latin typeface="Verdana"/>
              </a:rPr>
              <a:t>STOP when the unit you want is in the numerato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990360" y="28954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904760" y="33526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133360" y="28954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971800" y="33526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190760" y="335268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276360" y="28954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2895480"/>
            <a:ext cx="68580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609588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00"/>
                </a:solidFill>
                <a:latin typeface="Verdana"/>
              </a:rPr>
              <a:t>Step 6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Stop, Drop, and Calcula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30481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= 1.3 x 10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5880" y="396252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Verdana"/>
              </a:rPr>
              <a:t>Note: sig figs should equal that found in </a:t>
            </a:r>
            <a:r>
              <a:rPr b="1" i="1" lang="en-US" sz="1400" spc="-1" strike="noStrike">
                <a:solidFill>
                  <a:srgbClr val="cc3300"/>
                </a:solidFill>
                <a:latin typeface="Verdana"/>
              </a:rPr>
              <a:t>giv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52880" y="2971800"/>
            <a:ext cx="1905120" cy="457200"/>
          </a:xfrm>
          <a:prstGeom prst="rect">
            <a:avLst/>
          </a:prstGeom>
          <a:gradFill rotWithShape="0">
            <a:gsLst>
              <a:gs pos="0">
                <a:srgbClr val="00cc00">
                  <a:alpha val="21176"/>
                </a:srgbClr>
              </a:gs>
              <a:gs pos="100000">
                <a:srgbClr val="005e00">
                  <a:alpha val="2117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Practice 1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13716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l = 1 c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gal = 3.8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= 1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52388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.      2.9 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= __?__ 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327672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.      9.9 in = __?__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274320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km = 0.61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i = 5280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ft = 12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 = 39.3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in = 2.5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5029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.      8.1 s = __?__ y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77120" y="4876920"/>
            <a:ext cx="236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day = 24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yr = 365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hr = 60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in = 60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hr = 3600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Practice 2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6002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.     33 mph = __?__ c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77120" y="1371600"/>
            <a:ext cx="2438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km = 0.61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i = 5280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ft = 12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 = 39.3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in = 2.5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3048120"/>
            <a:ext cx="236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day = 24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yr = 365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hr = 60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in = 60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hr = 3600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33526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.     $2.55/gal = __?__ Eu/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53080" y="48006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l = 1 c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gal = 3.8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= 1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51055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.     1.5 c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/s = __?__ gal/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77120" y="6248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Eu = $1.18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9T03:30:47Z</dcterms:created>
  <dc:creator>marti andreski</dc:creator>
  <dc:description/>
  <dc:language>en-US</dc:language>
  <cp:lastModifiedBy>jluckey</cp:lastModifiedBy>
  <dcterms:modified xsi:type="dcterms:W3CDTF">2009-08-25T16:50:39Z</dcterms:modified>
  <cp:revision>58</cp:revision>
  <dc:subject/>
  <dc:title>Math, Measurement &amp; Metrics</dc:title>
</cp:coreProperties>
</file>